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893A-CC9C-4DE9-90EF-7A77E9D6F2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0F7B-20A2-4AC3-BB9C-2A8268CF40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DB5C-8792-40DF-8645-B1F0045860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374-2BB2-4CEA-AA75-7C50573F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B7C-76F8-4CD3-B8AA-4D42E334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BE2-FFB0-4E2F-B984-DF061025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DD6-540B-4A27-BB74-AC50CB97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2BE-6C89-451E-931B-B6C74B59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773-40F9-4084-820F-4BA24F2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93B-06E8-44E3-BE03-60C46C0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661-2534-4752-8C41-474CDE1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5AC-E10C-4E03-B2EE-A02073F5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285-CB04-4BC0-8399-12C468A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889-366A-41D6-BDCE-732DC7B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5BA-3286-478B-949A-356560C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ED89-A299-41CD-A36A-94D138AB1C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77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ily Routine Assessment-Mon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560" y="1700280"/>
            <a:ext cx="65134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me1_t4_u5_2_1-1"/>
          <p:cNvPicPr/>
          <p:nvPr/>
        </p:nvPicPr>
        <p:blipFill>
          <a:blip r:embed="rId1"/>
          <a:stretch/>
        </p:blipFill>
        <p:spPr>
          <a:xfrm>
            <a:off x="2627280" y="1700280"/>
            <a:ext cx="373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What to study for </a:t>
            </a:r>
            <a:r>
              <a:rPr b="1" lang="es-ES" sz="4800" spc="-1" strike="noStrike" u="sng">
                <a:solidFill>
                  <a:srgbClr val="000000"/>
                </a:solidFill>
                <a:uFillTx/>
                <a:latin typeface="Arial"/>
              </a:rPr>
              <a:t>Written Assessment 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You must write a text about yourself describing your daily rou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reflexive verbs 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quencing words: normalmente, primero, POR LA 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Ñ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, POR LA TARDE et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y at wha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so give your opinion: me gusta ver la 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d use some verbs that are NOT reflexive like…voy a…, desayuno, ceno, veo la tel, hago mis deberes. (BE CAREFUL NOT TO MAKE THESE VERBS REFLEXIVE)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E MODEL -YOU MUST WRITE LIKE THIS TO GET -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sample of a high leve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 rutina diari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 Marcos. Vivo en Taipei y voy a la escuela europea en Taipei (TES). Aquí es mi rutina diaria.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 la maña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despier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las se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ue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levanto a las seis y cuarto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mer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ducho 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vis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ápida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rmalmen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yuno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to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lavo los dientes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peino y voy al institu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las siete y media de la mañ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la tar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uelvo a casa.  Primero hago mis deberes…… 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 an opinion in your writin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of opin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io levantarme –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hate to get myself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 gusta hacer los deber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I don’t like to do my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encanta ver la tele, pero no normalmente no puedo.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ove to watch TV, but usually I ca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gusta acostarme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 like to go to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Nunca descanso!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never 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Qué horario!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 schedu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STUDY FO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aking Assess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on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HAVE 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 friend what they do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Qué haces por la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t what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they don’t tell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A qué h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hat they do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Qué haces por la tar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t what time if they don’t give you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¿A qué h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Answer on Speaking Assessm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tell them 4 things you do in the morning.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CAREFUL TO KNOW WHICH VERBS ARE REFLEXIVE AND WHICH ARE NO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MIX THEM UP!                          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anto. –reflexive     Ceno- NOT reflex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on’t say levanto!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don’t say me ceno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tell them at what time you do thes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MUST USE SEQUENCING WORDS FOR THE HIGHEST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sample of how to speak for the highest lev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 Hola Santiago. ¿Qué haces por la mañ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despierto a las seis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e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leva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as seis y med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yuno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sp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lavo los dientes. Entonces voy al instit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 ¿A qué hora vas al institu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 Voy al institu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las siete y cu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-¿Qué haces por la tar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- Primero…(say your routine in the ev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Buena suer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4:28:40Z</dcterms:created>
  <dc:creator>elisenda.rasero</dc:creator>
  <dc:description/>
  <dc:language>en-US</dc:language>
  <cp:lastModifiedBy>Mac</cp:lastModifiedBy>
  <dcterms:modified xsi:type="dcterms:W3CDTF">2013-11-09T10:40:46Z</dcterms:modified>
  <cp:revision>33</cp:revision>
  <dc:subject/>
  <dc:title>  Bienvenidos a clase de Español   ¡BUENOS DÍAS! </dc:title>
</cp:coreProperties>
</file>